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785-FC12-46C3-8F02-8363A446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569-2A59-41B7-A4FE-BFA28F00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4A5-FAC0-41C0-B6DE-03E02628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92C-6912-48F7-99BE-C9D619BC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7FA-18DD-4328-90E3-F4CDA4AE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82F-CFAB-4911-A761-F6FC7ACB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DEA-0DA6-42CD-B893-9C3E8217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97E-E066-4497-9AAD-7CE17FC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7F0-0C8E-4015-BC9A-6AD15602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5F6-8F71-44C7-B944-579C02B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AAA-547D-4689-B74A-BDB15CE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6D6-EC69-4ADB-AF41-FB17061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F21-D326-4C91-9F98-A48D961C9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983RCXWwpZVvi_ph" descr=""/>
          <p:cNvPicPr/>
          <p:nvPr/>
        </p:nvPicPr>
        <p:blipFill>
          <a:blip r:embed="rId2"/>
          <a:stretch/>
        </p:blipFill>
        <p:spPr>
          <a:xfrm>
            <a:off x="0" y="0"/>
            <a:ext cx="3867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361800"/>
            <a:ext cx="52578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وهوَ ملجانَ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لا نَخَافُ السُو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ُّ نجّانا من شَدائِدن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نُقبِلْ إِلَيْهِ وَلْنَسمَعْ لَه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وتُ الَربِّ ناعِمٌ يدخُلُ في الأَعماق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َعْمُ الربِّ لَذيذٌ أشهى مِن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َسَلْ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ِيرُ الربِّ طَيّبٌ حِمْلُ الرَبِّ خَفيف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َلْبُ الربِّ وديعٌ طوبىَ لِمَنْ يَهواه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18:17Z</dcterms:created>
  <dc:creator>USER</dc:creator>
  <dc:description/>
  <dc:language>en-US</dc:language>
  <cp:lastModifiedBy>USER</cp:lastModifiedBy>
  <dcterms:modified xsi:type="dcterms:W3CDTF">2002-10-30T16:20:03Z</dcterms:modified>
  <cp:revision>2</cp:revision>
  <dc:subject/>
  <dc:title>PowerPoint Presentation</dc:title>
</cp:coreProperties>
</file>